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337-7EA6-4739-A96A-3A7C6139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4D8-E384-45E8-829A-E71C8CA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50C-65D3-4CDC-B836-37FC719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8D6-1918-4F82-ABEE-B76C9CC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E77B-73D3-451D-8C1A-CA53DB3C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D2E6-11C4-4B29-AE54-8659A5C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D6AD-E48C-4F51-A06F-D45239B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4647-5FFA-4386-B2DA-DD1D7B4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7FB0-1106-468D-BBA8-04811E55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F4F-9D28-468F-9EFF-EBD640CC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0BDB-7892-4C07-A131-E919E3F3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462-99A0-4D34-8867-F8B3C48E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9B81-7799-47D8-96B7-FA783CA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A86-32FD-4CC8-8345-3FE1DB5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7B4-EDC2-4B5F-8C25-5C15DDFA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CC27-0E01-4B81-855D-E21B15E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514-B8D1-4554-8DCC-37C741C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146-A4AB-4438-8EBB-9744A93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F1A-81DC-4CE6-A3C9-1B2876E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441-9B22-414D-B754-5B59B08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59F-74F6-4A23-B8CD-92B9EA40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4A7-3533-4DAE-AA8E-A9D60B9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934-47C3-4957-861C-ED823B8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54E-9167-447C-903F-F3E7017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D37-9691-490B-B1C4-4269B15F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EF9-C356-4BCA-8418-C658A772F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the hajj"/>
          <p:cNvPicPr/>
          <p:nvPr/>
        </p:nvPicPr>
        <p:blipFill>
          <a:blip r:embed="rId1"/>
          <a:stretch/>
        </p:blipFill>
        <p:spPr>
          <a:xfrm>
            <a:off x="4206960" y="3193920"/>
            <a:ext cx="5022720" cy="3760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152280" y="0"/>
            <a:ext cx="8839440" cy="175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llringer 3/12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e spoke about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ive Pillar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of Islam.  Answer the following questions regarding our discus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 5 minutes to fin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0" y="38862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Do you have any “pillars” in your life or routines/duties that you follow everyday?  How would your life change if you suddenly had to remove those routines or follow new 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2895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ve Pill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the hardest to follow for you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0" y="2133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five pillars of Islam?  (just the n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2T11:51:23Z</dcterms:modified>
  <cp:revision>12</cp:revision>
  <dc:subject/>
  <dc:title>Slide 1</dc:title>
</cp:coreProperties>
</file>